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A1747-F5C4-47B7-9534-2B87209D4B15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2001: 4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2002: 5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2003: 6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Times New Roman"/>
              </a:rPr>
              <a:t>15% de crecimiento anu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Marzo 19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Encontraron 3 granos sospechosos.  Los mandaron  a dos labs. Uno en Philadelphia y otro en Cincinat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Los calif fueron designados como culpables. El 18 de Julio se señala a Guatema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La enfermedad de las vacas locas (BSE) como consecuencia de convertir a un animal vegetariano en canib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La contaminacion de Estrogeno en los empaques plastic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Panico a cualquier contaminacion como la causada por la fiebre del pollo en A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Residuos toxicos en el cuerpo que no pueden degrad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La obesidad:  en los EEUU era de 25% en 1981 y en 2001 es de 35%.  Mata a 300,000 y cuesta $100BB en cuidados medic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Vegetarianos.  Como respuesta al riezgo de enfermedades coronarias y cancer el crecimiento del consumo de frutas y vegetales sera muy grande en los años por delante. En 1996 era del 5% en EEU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99A1-82D6-43CD-9BCE-4E2861336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66C4-4A2B-43D3-A7AC-8B5443944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12C1-A68F-422D-909D-3F87C1493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8066-D6E1-4B35-AEC1-816B54739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96B38-CA45-46D8-B8E6-5F13E9572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2E558-A83F-4F22-A9F4-F74707833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7761D-75BF-4A6D-908B-5D85C5AAF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F09CB-0CD2-4494-8E00-6D0FF934A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03757-D132-4339-8D8B-C19F7B9AA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F61E0-5112-422A-99D0-8E931A96E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CFB00-838D-43B4-A912-78DE45557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8E6F-FA64-448F-981A-339E33F30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A9AAF-86EA-4D28-A991-6D1EAC009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B1AAE-589B-45BC-9F49-10EA7900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29B60-B49D-4F97-ABAE-F51FCBFFB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650F5-C7FA-4339-8FCF-EE831BCC5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EAC3F-D0AD-42CB-AE79-83C8FB4A8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E4BF-4A25-4BB5-B80D-3DEA97FED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E9D8-A50F-4536-8B1F-18EE54305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8ABE-9C42-41FC-BCE4-8FC6014F3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A7ED-7960-4A15-80AA-489535034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302D-503E-41F5-B9FA-7BC0E2CA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C691-3B4F-4204-9BB7-E60840FB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DC33-6ACD-4012-8428-ECCAE564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4B706-476B-4239-AB64-56DC70C52A60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771CC-F9AB-430A-AB9E-AF64A8D05978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65160" y="76320"/>
            <a:ext cx="1154160" cy="10000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660066"/>
                </a:solidFill>
                <a:latin typeface="Tahoma"/>
              </a:rPr>
              <a:t>La Calidad en la Agroindustr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           </a:t>
            </a:r>
            <a:r>
              <a:rPr b="0" lang="es-PE" sz="4000" spc="-1" strike="noStrike">
                <a:solidFill>
                  <a:srgbClr val="40458c"/>
                </a:solidFill>
                <a:latin typeface="Tahoma"/>
              </a:rPr>
              <a:t>Una forma de vida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Juan Rodolfo Wiesner     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Gerente Genera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                            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660066"/>
                </a:solidFill>
                <a:latin typeface="Tahoma"/>
              </a:rPr>
              <a:t>Sistemas Internacionales</a:t>
            </a:r>
            <a:br>
              <a:rPr sz="3600"/>
            </a:br>
            <a:r>
              <a:rPr b="0" lang="es-PE" sz="3600" spc="-1" strike="noStrike">
                <a:solidFill>
                  <a:srgbClr val="660066"/>
                </a:solidFill>
                <a:latin typeface="Tahoma"/>
              </a:rPr>
              <a:t>para la gestión de Calidad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Sistema HACC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Sistema de Gestión ISO 900/2000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Sistema de gestión ambiental ISO 14001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Codex. Higiene de los alimentos. FAO/O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EUREPGA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660066"/>
                </a:solidFill>
                <a:latin typeface="Tahoma"/>
              </a:rPr>
              <a:t>Sistemas Internacionales</a:t>
            </a:r>
            <a:br>
              <a:rPr sz="3600"/>
            </a:br>
            <a:r>
              <a:rPr b="0" lang="es-PE" sz="3600" spc="-1" strike="noStrike">
                <a:solidFill>
                  <a:srgbClr val="660066"/>
                </a:solidFill>
                <a:latin typeface="Tahoma"/>
              </a:rPr>
              <a:t>para la gestión de Calidad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Sistema GMP 13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EFS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SENAS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ETC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2386440" y="304920"/>
            <a:ext cx="427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s-PE" sz="1600" spc="-1" strike="noStrike">
                <a:solidFill>
                  <a:srgbClr val="660066"/>
                </a:solidFill>
                <a:latin typeface="Tahoma"/>
              </a:rPr>
              <a:t>EXPORTACIONES AGRICOLAS PERUANA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52280" y="1467000"/>
            <a:ext cx="8991720" cy="53910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660066"/>
                </a:solidFill>
                <a:latin typeface="Tahoma"/>
              </a:rPr>
              <a:t>EXPORTACIONES AGROPECUARIAS EN PERÚ</a:t>
            </a:r>
            <a:br>
              <a:rPr sz="2400"/>
            </a:br>
            <a:r>
              <a:rPr b="0" lang="es-PE" sz="2400" spc="-1" strike="noStrike">
                <a:solidFill>
                  <a:srgbClr val="660066"/>
                </a:solidFill>
                <a:latin typeface="Tahoma"/>
              </a:rPr>
              <a:t>(Millones US$ FOB)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600200" y="1676520"/>
          <a:ext cx="7238880" cy="48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676520"/>
                    <a:ext cx="7238880" cy="48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"/>
          <p:cNvGrpSpPr/>
          <p:nvPr/>
        </p:nvGrpSpPr>
        <p:grpSpPr>
          <a:xfrm>
            <a:off x="2475000" y="420840"/>
            <a:ext cx="4194000" cy="6018120"/>
            <a:chOff x="2475000" y="420840"/>
            <a:chExt cx="4194000" cy="6018120"/>
          </a:xfrm>
        </p:grpSpPr>
        <p:grpSp>
          <p:nvGrpSpPr>
            <p:cNvPr id="225" name=""/>
            <p:cNvGrpSpPr/>
            <p:nvPr/>
          </p:nvGrpSpPr>
          <p:grpSpPr>
            <a:xfrm>
              <a:off x="2475000" y="420840"/>
              <a:ext cx="4194000" cy="442800"/>
              <a:chOff x="2475000" y="420840"/>
              <a:chExt cx="4194000" cy="442800"/>
            </a:xfrm>
          </p:grpSpPr>
          <p:sp>
            <p:nvSpPr>
              <p:cNvPr id="226" name=""/>
              <p:cNvSpPr/>
              <p:nvPr/>
            </p:nvSpPr>
            <p:spPr>
              <a:xfrm>
                <a:off x="2475000" y="420840"/>
                <a:ext cx="4194000" cy="44280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475000" y="420840"/>
                <a:ext cx="4194000" cy="44280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EXPORTACIONES DE PRODUCTOS AGRÍCOLAS</a:t>
                </a:r>
                <a:br>
                  <a:rPr sz="1200"/>
                </a:br>
                <a:r>
                  <a:rPr b="1" lang="en-US" sz="11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En miles de dólares FOB.</a:t>
                </a:r>
                <a:endParaRPr b="0" lang="en-US" sz="11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2475000" y="863640"/>
              <a:ext cx="2395440" cy="274680"/>
              <a:chOff x="2475000" y="863640"/>
              <a:chExt cx="2395440" cy="274680"/>
            </a:xfrm>
          </p:grpSpPr>
          <p:sp>
            <p:nvSpPr>
              <p:cNvPr id="229" name=""/>
              <p:cNvSpPr/>
              <p:nvPr/>
            </p:nvSpPr>
            <p:spPr>
              <a:xfrm>
                <a:off x="2475000" y="863640"/>
                <a:ext cx="2395440" cy="27468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475000" y="863640"/>
                <a:ext cx="2395440" cy="27468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Producto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4870440" y="863640"/>
              <a:ext cx="858960" cy="274680"/>
              <a:chOff x="4870440" y="863640"/>
              <a:chExt cx="858960" cy="274680"/>
            </a:xfrm>
          </p:grpSpPr>
          <p:sp>
            <p:nvSpPr>
              <p:cNvPr id="232" name=""/>
              <p:cNvSpPr/>
              <p:nvPr/>
            </p:nvSpPr>
            <p:spPr>
              <a:xfrm>
                <a:off x="4870440" y="863640"/>
                <a:ext cx="858960" cy="27468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870440" y="863640"/>
                <a:ext cx="858960" cy="27468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996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5729400" y="863640"/>
              <a:ext cx="939600" cy="274680"/>
              <a:chOff x="5729400" y="863640"/>
              <a:chExt cx="939600" cy="274680"/>
            </a:xfrm>
          </p:grpSpPr>
          <p:sp>
            <p:nvSpPr>
              <p:cNvPr id="235" name=""/>
              <p:cNvSpPr/>
              <p:nvPr/>
            </p:nvSpPr>
            <p:spPr>
              <a:xfrm>
                <a:off x="5729400" y="863640"/>
                <a:ext cx="939600" cy="27468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729400" y="863640"/>
                <a:ext cx="939600" cy="27468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997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2475000" y="1138320"/>
              <a:ext cx="2395440" cy="274680"/>
              <a:chOff x="2475000" y="1138320"/>
              <a:chExt cx="2395440" cy="274680"/>
            </a:xfrm>
          </p:grpSpPr>
          <p:sp>
            <p:nvSpPr>
              <p:cNvPr id="238" name=""/>
              <p:cNvSpPr/>
              <p:nvPr/>
            </p:nvSpPr>
            <p:spPr>
              <a:xfrm>
                <a:off x="2475000" y="113832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475000" y="113832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Hortalizas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4870440" y="1138320"/>
              <a:ext cx="858960" cy="274680"/>
              <a:chOff x="4870440" y="1138320"/>
              <a:chExt cx="858960" cy="274680"/>
            </a:xfrm>
          </p:grpSpPr>
          <p:sp>
            <p:nvSpPr>
              <p:cNvPr id="241" name=""/>
              <p:cNvSpPr/>
              <p:nvPr/>
            </p:nvSpPr>
            <p:spPr>
              <a:xfrm>
                <a:off x="4870440" y="113832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870440" y="113832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11.914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5729400" y="1138320"/>
              <a:ext cx="939600" cy="274680"/>
              <a:chOff x="5729400" y="1138320"/>
              <a:chExt cx="939600" cy="274680"/>
            </a:xfrm>
          </p:grpSpPr>
          <p:sp>
            <p:nvSpPr>
              <p:cNvPr id="244" name=""/>
              <p:cNvSpPr/>
              <p:nvPr/>
            </p:nvSpPr>
            <p:spPr>
              <a:xfrm>
                <a:off x="5729400" y="113832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729400" y="113832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84.623</a:t>
                </a:r>
                <a:r>
                  <a:rPr b="0" lang="en-US" sz="11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 (1)</a:t>
                </a:r>
                <a:endParaRPr b="0" lang="en-US" sz="11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2475000" y="1413000"/>
              <a:ext cx="2395440" cy="1735200"/>
              <a:chOff x="2475000" y="1413000"/>
              <a:chExt cx="2395440" cy="1735200"/>
            </a:xfrm>
          </p:grpSpPr>
          <p:sp>
            <p:nvSpPr>
              <p:cNvPr id="247" name=""/>
              <p:cNvSpPr/>
              <p:nvPr/>
            </p:nvSpPr>
            <p:spPr>
              <a:xfrm>
                <a:off x="2475000" y="1413000"/>
                <a:ext cx="2395440" cy="173520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475000" y="1413000"/>
                <a:ext cx="2395440" cy="173520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Fruta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Fresca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Congelada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Conservadas provisionalmente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Confitada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Mermelada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En conserva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Zumo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Deshidratadas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4870440" y="1413000"/>
              <a:ext cx="858960" cy="1735200"/>
              <a:chOff x="4870440" y="1413000"/>
              <a:chExt cx="858960" cy="1735200"/>
            </a:xfrm>
          </p:grpSpPr>
          <p:sp>
            <p:nvSpPr>
              <p:cNvPr id="250" name=""/>
              <p:cNvSpPr/>
              <p:nvPr/>
            </p:nvSpPr>
            <p:spPr>
              <a:xfrm>
                <a:off x="4870440" y="1413000"/>
                <a:ext cx="858960" cy="173520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870440" y="1413000"/>
                <a:ext cx="858960" cy="173520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.702.398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.345.99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68.282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.449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986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1.349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61.579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26.100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75.660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5729400" y="1413000"/>
              <a:ext cx="939600" cy="1735200"/>
              <a:chOff x="5729400" y="1413000"/>
              <a:chExt cx="939600" cy="1735200"/>
            </a:xfrm>
          </p:grpSpPr>
          <p:sp>
            <p:nvSpPr>
              <p:cNvPr id="253" name=""/>
              <p:cNvSpPr/>
              <p:nvPr/>
            </p:nvSpPr>
            <p:spPr>
              <a:xfrm>
                <a:off x="5729400" y="1413000"/>
                <a:ext cx="939600" cy="173520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729400" y="1413000"/>
                <a:ext cx="939600" cy="173520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.580.67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.291.930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43.96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.18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.76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0.334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58.99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86.179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75.428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2475000" y="3148200"/>
              <a:ext cx="2395440" cy="274680"/>
              <a:chOff x="2475000" y="3148200"/>
              <a:chExt cx="2395440" cy="274680"/>
            </a:xfrm>
          </p:grpSpPr>
          <p:sp>
            <p:nvSpPr>
              <p:cNvPr id="256" name=""/>
              <p:cNvSpPr/>
              <p:nvPr/>
            </p:nvSpPr>
            <p:spPr>
              <a:xfrm>
                <a:off x="2475000" y="314820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475000" y="314820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Cereales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4870440" y="3148200"/>
              <a:ext cx="858960" cy="274680"/>
              <a:chOff x="4870440" y="3148200"/>
              <a:chExt cx="858960" cy="274680"/>
            </a:xfrm>
          </p:grpSpPr>
          <p:sp>
            <p:nvSpPr>
              <p:cNvPr id="259" name=""/>
              <p:cNvSpPr/>
              <p:nvPr/>
            </p:nvSpPr>
            <p:spPr>
              <a:xfrm>
                <a:off x="4870440" y="314820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870440" y="314820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.007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5729400" y="3148200"/>
              <a:ext cx="939600" cy="274680"/>
              <a:chOff x="5729400" y="3148200"/>
              <a:chExt cx="939600" cy="274680"/>
            </a:xfrm>
          </p:grpSpPr>
          <p:sp>
            <p:nvSpPr>
              <p:cNvPr id="262" name=""/>
              <p:cNvSpPr/>
              <p:nvPr/>
            </p:nvSpPr>
            <p:spPr>
              <a:xfrm>
                <a:off x="5729400" y="314820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729400" y="314820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.659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2475000" y="3422880"/>
              <a:ext cx="2395440" cy="274680"/>
              <a:chOff x="2475000" y="3422880"/>
              <a:chExt cx="2395440" cy="274680"/>
            </a:xfrm>
          </p:grpSpPr>
          <p:sp>
            <p:nvSpPr>
              <p:cNvPr id="265" name=""/>
              <p:cNvSpPr/>
              <p:nvPr/>
            </p:nvSpPr>
            <p:spPr>
              <a:xfrm>
                <a:off x="2475000" y="3422880"/>
                <a:ext cx="2395440" cy="27468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475000" y="3422880"/>
                <a:ext cx="2395440" cy="27468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Legumbres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4870440" y="3422880"/>
              <a:ext cx="858960" cy="274680"/>
              <a:chOff x="4870440" y="3422880"/>
              <a:chExt cx="858960" cy="274680"/>
            </a:xfrm>
          </p:grpSpPr>
          <p:sp>
            <p:nvSpPr>
              <p:cNvPr id="268" name=""/>
              <p:cNvSpPr/>
              <p:nvPr/>
            </p:nvSpPr>
            <p:spPr>
              <a:xfrm>
                <a:off x="4870440" y="3422880"/>
                <a:ext cx="858960" cy="27468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870440" y="3422880"/>
                <a:ext cx="858960" cy="27468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8.917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5729400" y="3422880"/>
              <a:ext cx="939600" cy="274680"/>
              <a:chOff x="5729400" y="3422880"/>
              <a:chExt cx="939600" cy="274680"/>
            </a:xfrm>
          </p:grpSpPr>
          <p:sp>
            <p:nvSpPr>
              <p:cNvPr id="271" name=""/>
              <p:cNvSpPr/>
              <p:nvPr/>
            </p:nvSpPr>
            <p:spPr>
              <a:xfrm>
                <a:off x="5729400" y="3422880"/>
                <a:ext cx="939600" cy="27468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729400" y="3422880"/>
                <a:ext cx="939600" cy="27468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7.485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2475000" y="3697560"/>
              <a:ext cx="2395440" cy="274680"/>
              <a:chOff x="2475000" y="3697560"/>
              <a:chExt cx="2395440" cy="274680"/>
            </a:xfrm>
          </p:grpSpPr>
          <p:sp>
            <p:nvSpPr>
              <p:cNvPr id="274" name=""/>
              <p:cNvSpPr/>
              <p:nvPr/>
            </p:nvSpPr>
            <p:spPr>
              <a:xfrm>
                <a:off x="2475000" y="369756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475000" y="369756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Semillas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4870440" y="3697560"/>
              <a:ext cx="858960" cy="274680"/>
              <a:chOff x="4870440" y="3697560"/>
              <a:chExt cx="858960" cy="274680"/>
            </a:xfrm>
          </p:grpSpPr>
          <p:sp>
            <p:nvSpPr>
              <p:cNvPr id="277" name=""/>
              <p:cNvSpPr/>
              <p:nvPr/>
            </p:nvSpPr>
            <p:spPr>
              <a:xfrm>
                <a:off x="4870440" y="369756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870440" y="369756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87.725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5729400" y="3697560"/>
              <a:ext cx="939600" cy="274680"/>
              <a:chOff x="5729400" y="3697560"/>
              <a:chExt cx="939600" cy="274680"/>
            </a:xfrm>
          </p:grpSpPr>
          <p:sp>
            <p:nvSpPr>
              <p:cNvPr id="280" name=""/>
              <p:cNvSpPr/>
              <p:nvPr/>
            </p:nvSpPr>
            <p:spPr>
              <a:xfrm>
                <a:off x="5729400" y="369756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729400" y="369756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03.975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2475000" y="3972240"/>
              <a:ext cx="2395440" cy="1734840"/>
              <a:chOff x="2475000" y="3972240"/>
              <a:chExt cx="2395440" cy="1734840"/>
            </a:xfrm>
          </p:grpSpPr>
          <p:sp>
            <p:nvSpPr>
              <p:cNvPr id="283" name=""/>
              <p:cNvSpPr/>
              <p:nvPr/>
            </p:nvSpPr>
            <p:spPr>
              <a:xfrm>
                <a:off x="2475000" y="3972240"/>
                <a:ext cx="2395440" cy="173484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475000" y="3972240"/>
                <a:ext cx="2395440" cy="173484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Otros producto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</a:t>
                </a:r>
                <a:r>
                  <a:rPr b="0" i="1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Coseta</a:t>
                </a: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 de remolacha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Caramelo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Chocolate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Pastas alimenticia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Tabaco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Malta, incluso tostada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Zumo en polvo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Vino embotellado y a granel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4870440" y="3972240"/>
              <a:ext cx="858960" cy="1734840"/>
              <a:chOff x="4870440" y="3972240"/>
              <a:chExt cx="858960" cy="1734840"/>
            </a:xfrm>
          </p:grpSpPr>
          <p:sp>
            <p:nvSpPr>
              <p:cNvPr id="286" name=""/>
              <p:cNvSpPr/>
              <p:nvPr/>
            </p:nvSpPr>
            <p:spPr>
              <a:xfrm>
                <a:off x="4870440" y="3972240"/>
                <a:ext cx="858960" cy="173484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870440" y="3972240"/>
                <a:ext cx="858960" cy="173484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569.155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3.481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4.377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3.958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7.206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9.515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7.386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49.165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94.067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5729400" y="3972240"/>
              <a:ext cx="939600" cy="1734840"/>
              <a:chOff x="5729400" y="3972240"/>
              <a:chExt cx="939600" cy="1734840"/>
            </a:xfrm>
          </p:grpSpPr>
          <p:sp>
            <p:nvSpPr>
              <p:cNvPr id="289" name=""/>
              <p:cNvSpPr/>
              <p:nvPr/>
            </p:nvSpPr>
            <p:spPr>
              <a:xfrm>
                <a:off x="5729400" y="3972240"/>
                <a:ext cx="939600" cy="173484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729400" y="3972240"/>
                <a:ext cx="939600" cy="173484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618.090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4.282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5.92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3.781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35.06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2.986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3.975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68.167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423.913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2475000" y="5707080"/>
              <a:ext cx="2395440" cy="274680"/>
              <a:chOff x="2475000" y="5707080"/>
              <a:chExt cx="2395440" cy="274680"/>
            </a:xfrm>
          </p:grpSpPr>
          <p:sp>
            <p:nvSpPr>
              <p:cNvPr id="292" name=""/>
              <p:cNvSpPr/>
              <p:nvPr/>
            </p:nvSpPr>
            <p:spPr>
              <a:xfrm>
                <a:off x="2475000" y="570708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475000" y="570708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Total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4870440" y="5707080"/>
              <a:ext cx="858960" cy="274680"/>
              <a:chOff x="4870440" y="5707080"/>
              <a:chExt cx="858960" cy="274680"/>
            </a:xfrm>
          </p:grpSpPr>
          <p:sp>
            <p:nvSpPr>
              <p:cNvPr id="295" name=""/>
              <p:cNvSpPr/>
              <p:nvPr/>
            </p:nvSpPr>
            <p:spPr>
              <a:xfrm>
                <a:off x="4870440" y="570708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870440" y="570708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.591.116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5729400" y="5707080"/>
              <a:ext cx="939600" cy="274680"/>
              <a:chOff x="5729400" y="5707080"/>
              <a:chExt cx="939600" cy="274680"/>
            </a:xfrm>
          </p:grpSpPr>
          <p:sp>
            <p:nvSpPr>
              <p:cNvPr id="298" name=""/>
              <p:cNvSpPr/>
              <p:nvPr/>
            </p:nvSpPr>
            <p:spPr>
              <a:xfrm>
                <a:off x="5729400" y="570708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729400" y="570708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.506.505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2475000" y="5981760"/>
              <a:ext cx="4194000" cy="457200"/>
              <a:chOff x="2475000" y="5981760"/>
              <a:chExt cx="4194000" cy="457200"/>
            </a:xfrm>
          </p:grpSpPr>
          <p:sp>
            <p:nvSpPr>
              <p:cNvPr id="301" name=""/>
              <p:cNvSpPr/>
              <p:nvPr/>
            </p:nvSpPr>
            <p:spPr>
              <a:xfrm>
                <a:off x="2475000" y="5981760"/>
                <a:ext cx="4194000" cy="45720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475000" y="5981760"/>
                <a:ext cx="4194000" cy="45720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(1) [</a:t>
                </a:r>
                <a:r>
                  <a:rPr b="0" i="1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Sic</a:t>
                </a: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].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Fuente: Banco Central de Chile.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324480" y="-591120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65160" y="76320"/>
            <a:ext cx="11541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660066"/>
                </a:solidFill>
                <a:latin typeface="Tahoma"/>
              </a:rPr>
              <a:t>CASO DE LAS UVAS CHILENAS CON CIANURO</a:t>
            </a:r>
            <a:br>
              <a:rPr sz="2800"/>
            </a:br>
            <a:r>
              <a:rPr b="0" lang="es-PE" sz="2800" spc="-1" strike="noStrike">
                <a:solidFill>
                  <a:srgbClr val="660066"/>
                </a:solidFill>
                <a:latin typeface="Tahoma"/>
              </a:rPr>
              <a:t>                 (Marzo 1989)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- Perdidas por $240M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- 20,000 a 50,000 empleos perdid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- 2,400 productores afectad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- FDA: La Agencia que nunca pierd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5"/>
          <a:stretch/>
        </p:blipFill>
        <p:spPr>
          <a:xfrm>
            <a:off x="3886200" y="5410080"/>
            <a:ext cx="11541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660066"/>
                </a:solidFill>
                <a:latin typeface="Tahoma"/>
              </a:rPr>
              <a:t>CASO DE LAS FRAMBUESAS DE GUATEMALA</a:t>
            </a:r>
            <a:br>
              <a:rPr sz="2800"/>
            </a:br>
            <a:r>
              <a:rPr b="0" lang="es-PE" sz="2800" spc="-1" strike="noStrike">
                <a:solidFill>
                  <a:srgbClr val="660066"/>
                </a:solidFill>
                <a:latin typeface="Tahoma"/>
              </a:rPr>
              <a:t>                        (Junio 1996)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1,465 casos de infección por Cyclospora en EEUU y Canadá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Perdidas en ventas de Fresa de California $20MM a $40MM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Se perdio la confianza en un día y toda una vida para recuperarl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Hoy solo 5 firmas producen frutilla de las 85 original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Afecto todas las exportaciones del país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5"/>
          <a:stretch/>
        </p:blipFill>
        <p:spPr>
          <a:xfrm>
            <a:off x="3809880" y="5334120"/>
            <a:ext cx="11541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660066"/>
                </a:solidFill>
                <a:latin typeface="Tahoma"/>
              </a:rPr>
              <a:t>EL MUNDO ACTUAL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La población actual es de 6 billones y será de 8 billones en el 2025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El 95% de este crecimiento será en países pobr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60% de la población mundial vive con US$ 2 a día o men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Un billón de personas no saben leer ni escribi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840 millones tienen hambr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El concepto religioso y tribal será una gran fuerza dominant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El Terrorismo será una forma común de vida en muchos país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40458c"/>
                </a:solidFill>
                <a:latin typeface="Tahoma"/>
              </a:rPr>
              <a:t>Por todo esto el Mundo se caracterizara por grandes conflictos.  Será un Mundo de intolerancia y extremismo -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9"/>
          <a:stretch/>
        </p:blipFill>
        <p:spPr>
          <a:xfrm>
            <a:off x="7162920" y="228600"/>
            <a:ext cx="11541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660066"/>
                </a:solidFill>
                <a:latin typeface="Tahoma"/>
              </a:rPr>
              <a:t>LA ALIMENTACIÓN EN NUESTROS  MERCADOS DE EXPORTACIÓN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Cada día la neurosis será mayor. Los reclamos por alimentos y bebidas crecerá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Residuos Tóxicos en la sangr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La obesidad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Incremento en el consumo de frutas y vegetal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Será proveída por las grandes Cadenas de Supermercad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6"/>
          <a:stretch/>
        </p:blipFill>
        <p:spPr>
          <a:xfrm>
            <a:off x="3657600" y="5410080"/>
            <a:ext cx="11541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660066"/>
                </a:solidFill>
                <a:latin typeface="Times New Roman"/>
              </a:rPr>
              <a:t>Ventas Camposol</a:t>
            </a:r>
            <a:br>
              <a:rPr sz="4400"/>
            </a:b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457200" y="1676520"/>
          <a:ext cx="9220320" cy="556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9220320" cy="55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20" name="" descr=""/>
          <p:cNvPicPr/>
          <p:nvPr/>
        </p:nvPicPr>
        <p:blipFill>
          <a:blip r:embed="rId3"/>
          <a:stretch/>
        </p:blipFill>
        <p:spPr>
          <a:xfrm>
            <a:off x="65160" y="76320"/>
            <a:ext cx="1154160" cy="100008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534160" y="1828800"/>
            <a:ext cx="7596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7T15:28:25Z</dcterms:created>
  <dc:creator>Juan Rodolfo Wiesner</dc:creator>
  <dc:description/>
  <dc:language>en-US</dc:language>
  <cp:lastModifiedBy>jore</cp:lastModifiedBy>
  <dcterms:modified xsi:type="dcterms:W3CDTF">2004-04-30T17:16:32Z</dcterms:modified>
  <cp:revision>24</cp:revision>
  <dc:subject/>
  <dc:title>Presentación de PowerPoint</dc:title>
</cp:coreProperties>
</file>